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push.wav" ContentType="audio/x-wav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1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632-5A6B-4AAD-ADC8-95FE683C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A83-A691-4BD7-8E89-94BBC86E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820-2C31-4668-B40A-2886708F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B848-573F-489A-8EB5-F75CE981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5C9-502E-494D-95C6-7771EC64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34C-FDE5-48C1-B12D-179104A1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1A14-E461-404E-86AC-6A529E0D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28B-BCF2-43A1-9AB3-E1BC636A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94A-E207-4FC7-80A8-B946397D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03B2-7A08-4B08-868C-91F2D9D9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300-7838-4366-9E08-27904DDF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043E-588E-4CF4-A210-E7274136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6125-B583-433F-94AC-F03C7AB23A01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826920" y="907920"/>
            <a:ext cx="7191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ÖZLER GÖRMEZSE GÖNÜL NASIL GÖRÜR ?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-252360" y="3716280"/>
            <a:ext cx="900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</a:t>
            </a: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u soruya yüzyıllar boyu cevap aradık.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l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3213000"/>
            <a:ext cx="8445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9900cc"/>
                </a:solidFill>
                <a:latin typeface="Arial"/>
              </a:rPr>
              <a:t>DOSTLAR BENİ HATIRLAS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9900cc"/>
                </a:solidFill>
                <a:latin typeface="Arial"/>
              </a:rPr>
              <a:t>SAZIMDAN SES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9900cc"/>
                </a:solidFill>
                <a:latin typeface="Arial"/>
              </a:rPr>
              <a:t>DEYİŞ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403280" y="333360"/>
            <a:ext cx="61452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SERLERİ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AŞK VY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7"/>
          <p:cNvSpPr txBox="1"/>
          <p:nvPr/>
        </p:nvSpPr>
        <p:spPr>
          <a:xfrm>
            <a:off x="0" y="5589720"/>
            <a:ext cx="91440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NİM SADIK YARİM KARA TOPRAKTIR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"/>
    <p:sndAc>
      <p:stSnd>
        <p:snd r:embed="rId4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0755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Günümüzde de halk şiiri aynı özellikleriyle devam etmekte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Aşıklar köy köy Anadolu’yu gezer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Radyo,televizyon,CD araçlarını kullanır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MAHSUNİ ŞERİF,NEŞAT ERTAŞ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826920" y="260280"/>
            <a:ext cx="7315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ÜNÜMÜZDE DE HALK ŞAİRİ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AR MIDIR 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l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87_asik_veysel_0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73" name="WordArt 8"/>
          <p:cNvSpPr txBox="1"/>
          <p:nvPr/>
        </p:nvSpPr>
        <p:spPr>
          <a:xfrm>
            <a:off x="250920" y="260280"/>
            <a:ext cx="871380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ZUN İNCE BİR YOLDAYIM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611280" y="476280"/>
            <a:ext cx="7738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İLGİNİZ İÇİN TEŞEKKÜRLER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5" name="Picture 6" descr="AŞİK"/>
          <p:cNvPicPr/>
          <p:nvPr/>
        </p:nvPicPr>
        <p:blipFill>
          <a:blip r:embed="rId1"/>
          <a:stretch/>
        </p:blipFill>
        <p:spPr>
          <a:xfrm>
            <a:off x="1476360" y="1700280"/>
            <a:ext cx="5904000" cy="496872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611280" y="476280"/>
            <a:ext cx="7738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İLGİNİZ İÇİN TEŞEKKÜRLER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l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8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5"/>
          <p:cNvSpPr txBox="1"/>
          <p:nvPr/>
        </p:nvSpPr>
        <p:spPr>
          <a:xfrm>
            <a:off x="755640" y="476280"/>
            <a:ext cx="7488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UCA ANADOLU LİSESİ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WordArt 7"/>
          <p:cNvSpPr txBox="1"/>
          <p:nvPr/>
        </p:nvSpPr>
        <p:spPr>
          <a:xfrm>
            <a:off x="900000" y="2492280"/>
            <a:ext cx="727236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OZANLAR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med">
    <p:pull dir="l"/>
    <p:sndAc>
      <p:stSnd>
        <p:snd r:embed="rId3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özlü edebiyat ürünleri müzikle birleşir 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özlü edebiyat ürünleri nasıl aktarılı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Anonim ürünlerden başka neler v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1763640" y="476280"/>
            <a:ext cx="58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ÜNİTE SORULARI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808000" y="4653000"/>
            <a:ext cx="6335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33"/>
                </a:solidFill>
                <a:latin typeface="Arial"/>
              </a:rPr>
              <a:t>Halk şairi ne demekt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33"/>
                </a:solidFill>
                <a:latin typeface="Arial"/>
              </a:rPr>
              <a:t>Aşık Veysel kim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33"/>
                </a:solidFill>
                <a:latin typeface="Arial"/>
              </a:rPr>
              <a:t>Aşık Veysel’in eserleri neler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33"/>
                </a:solidFill>
                <a:latin typeface="Arial"/>
              </a:rPr>
              <a:t>Günümüzde de halk şairi var mıdı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1332000" y="333360"/>
            <a:ext cx="648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İÇERİK SORULARI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Arial"/>
              </a:rPr>
              <a:t>Halk şairi yüzyıllar öncesinden beri varlığını sürdüren, eskiden ozan-kam-bahşı-şaman dediğimiz sanatçılarımızd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Arial"/>
              </a:rPr>
              <a:t>Eserlerini saz (eskiden kopuz ) eşliğinde söylerl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1403280" y="404640"/>
            <a:ext cx="6121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HALK ŞAİRİ NE DEMEKTİR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ll dir="l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ASIK%20VEYSEL%20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Sivas – Şarkışla – Sivrialan  köyünde doğmuştur.Çocukken gözlerini kaybeder. Saz çalmaya hevesle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1931 yılında Ahmet Kutsi Tecer tarafından keşfedilir.Anadolu’da konserler verir, radyo programları yapar, konservatuarda dersler ve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1965’te TBMM , 500 lira aylık bağ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187280" y="404640"/>
            <a:ext cx="6985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ŞIK VEYSEL KİMDİR ?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l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qwertyuıopüüüüüüüüüüüüüüüü,,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6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66ff33"/>
                </a:solidFill>
                <a:latin typeface="Arial"/>
              </a:rPr>
              <a:t>Aşık Veysel; Anadolu, toprak sevgisi, köy sorunları ve acılı hayatını iş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66ff33"/>
                </a:solidFill>
                <a:latin typeface="Arial"/>
              </a:rPr>
              <a:t>Halk şairi geleneğini devam etti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66ff33"/>
                </a:solidFill>
                <a:latin typeface="Arial"/>
              </a:rPr>
              <a:t>Anadolu’yu köy köy , kahve kahve ge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66ff33"/>
                </a:solidFill>
                <a:latin typeface="Arial"/>
              </a:rPr>
              <a:t>İki şeye çok üzülü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66ff33"/>
                </a:solidFill>
                <a:latin typeface="Arial"/>
              </a:rPr>
              <a:t>Askere gidemem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66ff33"/>
                </a:solidFill>
                <a:latin typeface="Arial"/>
              </a:rPr>
              <a:t>Atatürk’e yazdığı destanı okuyamamak</a:t>
            </a:r>
            <a:r>
              <a:rPr b="0" lang="tr-TR" sz="32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1619280" y="260280"/>
            <a:ext cx="626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DEBİ ŞAHSİYETİ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l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yewolşnnnnny"/>
          <p:cNvPicPr/>
          <p:nvPr/>
        </p:nvPicPr>
        <p:blipFill>
          <a:blip r:embed="rId1"/>
          <a:stretch/>
        </p:blipFill>
        <p:spPr>
          <a:xfrm>
            <a:off x="-468360" y="-531720"/>
            <a:ext cx="9612360" cy="7389720"/>
          </a:xfrm>
          <a:prstGeom prst="rect">
            <a:avLst/>
          </a:prstGeom>
          <a:ln w="0">
            <a:noFill/>
          </a:ln>
        </p:spPr>
      </p:pic>
      <p:sp>
        <p:nvSpPr>
          <p:cNvPr id="61" name="WordArt 7"/>
          <p:cNvSpPr txBox="1"/>
          <p:nvPr/>
        </p:nvSpPr>
        <p:spPr>
          <a:xfrm>
            <a:off x="2916360" y="5084640"/>
            <a:ext cx="583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OST DOST DİYE DİYE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</a:t>
            </a:r>
            <a:r>
              <a:rPr b="0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İCESİNE SARILDIM</a:t>
            </a:r>
            <a:endParaRPr b="0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"/>
    <p:sndAc>
      <p:stSnd>
        <p:snd r:embed="rId7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21:36:23Z</dcterms:created>
  <dc:creator>TOSHIBA</dc:creator>
  <dc:description/>
  <dc:language>en-US</dc:language>
  <cp:lastModifiedBy>Öğrenci</cp:lastModifiedBy>
  <dcterms:modified xsi:type="dcterms:W3CDTF">2011-01-06T15:12:40Z</dcterms:modified>
  <cp:revision>5</cp:revision>
  <dc:subject/>
  <dc:title>Slayt 1</dc:title>
</cp:coreProperties>
</file>